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7EA-FF75-4EE6-A75B-D0910570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030-60E0-42E5-B7DA-EFCE2990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899-CDB5-4C91-B3F0-63F8FB2A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700-2222-48AB-925F-866342C9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A51-CD5C-4E04-BEBF-D0F1F5FB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226-B167-41DE-A85C-5455F1F3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85F-3D3E-4E4A-B206-C6F3D20E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00B-AAAA-4F38-9DDD-A532FB9B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119-32EB-4773-81E7-013B793C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6DC-5FFD-4C05-8064-29ABEA3A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556-C6AF-4C93-8A75-0FE7FB2E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0AC0-387C-4E59-A950-3FA2C8A6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B086-06C8-42D2-8A4E-75065AD9F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2840" y="152280"/>
            <a:ext cx="851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لي سواك ياسيد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اتي رضاك يا سيدي أنت مُتّكَلي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ُطَمئِنُ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533600" y="304920"/>
            <a:ext cx="1220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لوٌ ما أشهاك يا سيد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فس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 لا تس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ُفرِّح قلب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نَرتَ لي د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3618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نما ألقاك يا سيدي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ذبٌ ما أحلاك يا سيدي        تُبَدِّدُ همّ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ُفَرِّجُ ع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618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وسط الأشواك يا س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عينيَّ تراك يا سيدي تُضَمِّدُ جُرح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ُجدِّدُ فَرَح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361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فسي في حماك يا سيد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يني لعُ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قوَّتي حبَّ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صخرتي وعد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42:37Z</dcterms:modified>
  <cp:revision>9</cp:revision>
  <dc:subject/>
  <dc:title>PowerPoint Presentation</dc:title>
</cp:coreProperties>
</file>